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4E9-16D7-4F70-97B4-17DF8C13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632-EADA-4BB7-BABB-AABEA7DB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306-9418-4C52-8559-2BC5D74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C11-9E77-4355-96DC-904FBAE3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393-D4A0-4108-9B8A-A97B679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384-F568-4234-9B4A-3F1EB34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FD0-4069-4849-B10D-CF22E2D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27A-CD57-4CA3-ABA1-44D185D7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2EF-5150-4064-AA3F-60A4BC0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6AA-1699-46F9-81F8-9D301D2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1F0-1273-4164-A2F6-A39C951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9E1-DE02-4119-B518-469609A9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E160-B871-47B9-819F-673A8384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zipdn102.wav"/><Relationship Id="rId17" Type="http://schemas.openxmlformats.org/officeDocument/2006/relationships/audio" Target="../media/hzipup01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zipdn10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3960" y="1333440"/>
                <a:ext cx="3186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389480" y="1308240"/>
                <a:ext cx="12142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172280" y="1328760"/>
                <a:ext cx="121464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276880" y="1382760"/>
                <a:ext cx="2286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83120" y="1320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flipV="1">
            <a:off x="4437000" y="1488600"/>
            <a:ext cx="53352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16440" y="246528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5197320" y="2446200"/>
            <a:ext cx="675000" cy="462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06880" y="255420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4383000" y="246672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821200" y="114948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5272200" y="15368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613480" y="390996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762600" y="3375000"/>
                <a:ext cx="7732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721560" y="4232160"/>
                <a:ext cx="793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5440" y="1333440"/>
                <a:ext cx="34718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04960" y="3027240"/>
                <a:ext cx="768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17840" y="3057480"/>
                <a:ext cx="734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17560" y="36417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09880" y="1773360"/>
            <a:ext cx="350640" cy="1854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46440" y="3592440"/>
                <a:ext cx="61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38360" y="3608280"/>
                <a:ext cx="1062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04760" y="3530520"/>
                <a:ext cx="121464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24160" y="3506760"/>
                <a:ext cx="121464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4240" y="354636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1068480" y="371484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47920" y="469116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V="1">
            <a:off x="1828800" y="467172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35000" y="585936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735280" y="4718160"/>
                <a:ext cx="361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3011400" y="463032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383000" y="3313080"/>
                <a:ext cx="49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V="1">
            <a:off x="3900600" y="37004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112920" y="530856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24240" y="6186600"/>
                <a:ext cx="3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89440" y="5789520"/>
                <a:ext cx="1000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15800" y="1349280"/>
                <a:ext cx="39625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830160" y="2948040"/>
                <a:ext cx="8445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32320" y="2948040"/>
                <a:ext cx="807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984240" y="352584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1520" y="1646280"/>
            <a:ext cx="350640" cy="1854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24040" y="3502080"/>
                <a:ext cx="939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95440" y="3517920"/>
                <a:ext cx="1062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2560" y="3492360"/>
                <a:ext cx="121464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0800" y="3506760"/>
                <a:ext cx="12142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62320" y="461628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2638440" y="4528800"/>
            <a:ext cx="60948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49600" y="331308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3836880" y="37004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66920" y="349740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620800" y="36655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0200" y="470520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3691080" y="468612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44600" y="583092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67000" y="5308560"/>
                <a:ext cx="695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54120" y="618660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0760" y="1333440"/>
                <a:ext cx="33908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93800" y="1290600"/>
                <a:ext cx="148428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195720" y="1373040"/>
                <a:ext cx="148428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9280" y="1292400"/>
                <a:ext cx="49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992160" y="14605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71600" y="2436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752480" y="241740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60680" y="389412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35280" y="249228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V="1">
            <a:off x="3011400" y="240480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24480" y="1239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V="1">
            <a:off x="3944880" y="162720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63720" y="3357720"/>
                <a:ext cx="695160" cy="15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75040" y="4235400"/>
                <a:ext cx="3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73160" y="5310360"/>
                <a:ext cx="1541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3, 9 – 7 #1-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4 #15-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4T14:34:39Z</dcterms:modified>
  <cp:revision>96</cp:revision>
  <dc:subject/>
  <dc:title>Slide 1</dc:title>
</cp:coreProperties>
</file>